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4EB-C07A-4413-B454-D96DA5CD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85E-5DBC-488C-8607-1E704AD0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AD6-6697-4A3A-8C3F-230F436C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AA8-6F7E-4D97-94BB-088FD482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7CB-68B4-4385-804F-83A7CEBC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0CDA-22D8-4453-98C5-C24342AC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071-4CA5-4474-A803-3BFD084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02B-92E3-4CE4-9227-1A5C914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11F-A9B9-4DB6-83C4-0A58CF3B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E604-792F-4AB8-8DD5-499425AF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82E-AFD5-4225-8A3E-B70CBAA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F19-B171-46C6-9BF3-9D94C88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EB3E-8BA7-45A2-95A9-3FA22A0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92EF-8158-432F-90B7-7B76EC8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E56F-CAA9-4FAF-833D-36EC3DE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249-7157-4900-8695-953AAE5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323-4D5B-4D4A-A368-F7A11CD9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20C1-23D6-4893-AD1A-57569AD1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8695-820D-4D17-998F-10705A1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2624-2EA5-4A1E-8D5B-6668F737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28BA-D911-47EE-B00B-BAB78748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C2CD-A2C2-41C8-9F4F-9F83940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FA6-B1C8-4FCF-9911-51A83AB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6C06-515C-416B-B19E-DFE2D5F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6BF8-4338-4354-9960-1D1CC81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FC52-A3FC-4983-8446-851644A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643E-6CAD-4282-87F3-E8033C7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1FBB-B032-43E3-92F4-81C7D2E8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CED4-489B-4AC5-B5B3-92D658E9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980B-3BC4-4914-BE1D-7BCFF311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4E0C-04E3-4A4B-8D8E-2C6810E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B5AA-C446-4692-B70B-FF229002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1754-0154-475A-8B8A-A8CE67D5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DE8-521A-4CE5-9ACD-781DC2A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3CBA-10AA-41BA-A1E6-6858E5FA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1958-B814-47F7-B5A1-24F385D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2A82-2A63-4520-8AE0-224FB7C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9EA0-3469-4872-A69D-616DB5B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B1DD-5CA1-4E63-B5B6-BFAF17C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0A41-C1D9-41DB-B35E-41806F4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B299-845B-49F7-97C2-8EB049D3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8A4A-1CA3-4844-B277-46DDE02D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7C58-9A4B-45D8-BD7E-31E6F7DA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784F-0DEF-481C-8E20-219C8C1D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203-43CC-4800-9477-D9BD689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65E44-3103-4D81-B248-BD6310D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654A-36D8-4B05-8866-A2D9C09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F00A2-3913-4428-A217-D52E2DF9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8282-669E-48A2-93F6-E44CB18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E59C-D2EB-40A4-852A-26BBA56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BDAC-04A3-4B8A-95A5-3DB06962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F9FB-8404-454C-8C21-91EFDD3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8584-1728-476F-B5B5-7764624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F9C0-1296-4E32-B166-9345EB78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8BA4-22C9-46E8-B9F0-FC56618A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DA7-2DAC-4EC5-9423-1773E378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D92A-E154-4C4F-82B6-3692B578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9774-02EE-4BA6-9CA6-CE0CB7E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5CC7-DA93-44B2-B074-743897B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CB85-37CF-4B6A-A29C-A648036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16E5-E822-45F2-9AD0-8B9A8CCF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E23F-13D5-45BE-83AA-EF4C77E7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4CFED-35FA-4219-9FAE-419A3682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14BA-3DA3-47C4-9EA7-F904F26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13B8-1DE1-4E5D-9EF8-87C91C4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A290-632B-41E7-AACB-758A584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BEF-AE36-478E-8A54-16C1BAF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2634-71BE-4445-AFC7-C03709C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A27F-BD28-41CF-A9C4-6769308B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6D02-D15F-4080-839C-CDB92DE5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D13A-C636-47C6-8B6F-A5CA8042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BD95-6ECA-49DD-9BD9-258623C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07F01-6316-4FD4-95B4-B23563C0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1AF3-3185-42C6-8082-53672C5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4E038-40DA-45B7-9C60-2966242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1DEDA-FAB7-4907-905F-52519086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C4318-C36B-4CEC-A91B-55E7DE1C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A2B-136A-43FF-915B-28CB2E6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7679-9C94-4D68-8CD4-0B26792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0AF9-AEF5-419E-99DD-3A0F53D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9DC5-3901-4915-830A-FA703C9E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763E-3F6D-441B-BB28-6823DAE1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17AF-6622-4238-BA97-BE512DBC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3BDBB-20CB-4315-AC2E-7EC97C94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23BD-0AE6-464A-94CA-D4DF8E5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F5CE-A247-4014-A4A6-9C6F263C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B7CC-416D-4D74-8D6D-AE43E16A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A019-BF5C-49C7-AA58-D17B256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B3C-BD2F-4CA0-80E1-03CF1B7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8164-A2F9-4A56-B5B4-04A23A3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610F-3D4D-426A-8893-92E1B2F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FD96-F5EA-4855-8E9C-8D6530D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D47E-8E97-4EB7-B266-9E4EC1F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180A5-E791-47C1-8378-A7A84EC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A12A-4EA2-4E84-B3F6-D5C34A38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BF02-94A4-4E15-97C9-76AE12B4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DF95-7A13-4BAD-98F8-A939A420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2A4A-4E92-44A3-A22A-7D3FF9FA1D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DE63-EB0D-41DB-88ED-ECF29A5E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438-FF38-454A-B6AE-1D97A1272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FCA-E821-451B-B735-AC5DD714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A441-3C57-4BF1-B029-3879C294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692F-4014-47B8-96E1-1EF8E11AC4F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4DC-C954-4395-BDDE-3E8FF548723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plain why term “kinetic” makes sense when speaking about particle behavi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ccording to the kinetic theory, all matter consists of tiny particles that are in constant motion. These particles in gas are usually molecules or atom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2. How does a gas behave according to the kinetic molecular theory (KMT)? What are the three basic principles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The particles in a gas are considered to be small, hard spheres with an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significant volu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The motion of the particles in a gas is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rapid, constant, and random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. All collisions between particles in a gas are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perfectly elast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. Why is the motion of one particle independent of another particle in a gas sampl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 are no attractive or repulsive forces between the particles of a gas due to the larger distance between them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4. Define elastic collis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 is when kinetic energy is transferred without loss from one particle to another, and the total kinetic energy remains constant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ases fill their containers regardless of the shape and volume of the contain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uncontained gas can spread out into space without lim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as particles change direction only when they rebound from collisions with one another or with other objec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54:05Z</dcterms:created>
  <dc:creator>14valler</dc:creator>
  <dc:description/>
  <dc:language>en-US</dc:language>
  <cp:lastModifiedBy>udsd</cp:lastModifiedBy>
  <dcterms:modified xsi:type="dcterms:W3CDTF">2012-04-26T16:48:41Z</dcterms:modified>
  <cp:revision>3</cp:revision>
  <dc:subject/>
  <dc:title>Kinetic Theory - Gases</dc:title>
</cp:coreProperties>
</file>